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child%20yikes.wav" ContentType="audio/x-wav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children%20yeah.wav" ContentType="audio/x-wav"/>
  <Override PartName="/ppt/media/byipee04.wav" ContentType="audio/x-wav"/>
  <Override PartName="/ppt/media/image32.wmf" ContentType="image/x-wmf"/>
  <Override PartName="/ppt/media/image31.wmf" ContentType="image/x-wmf"/>
  <Override PartName="/ppt/media/GUNSHOT.WAV" ContentType="audio/x-wav"/>
  <Override PartName="/ppt/media/highchime.wav" ContentType="audio/x-wav"/>
  <Override PartName="/ppt/media/EXPLODE.WAV" ContentType="audio/x-wav"/>
  <Override PartName="/ppt/media/image1.wmf" ContentType="image/x-wmf"/>
  <Override PartName="/ppt/media/image13.wmf" ContentType="image/x-wmf"/>
  <Override PartName="/ppt/media/jetflyby2.wav" ContentType="audio/x-wav"/>
  <Override PartName="/ppt/media/DRIVEBY.WAV" ContentType="audio/x-wav"/>
  <Override PartName="/ppt/media/image63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image49.wmf" ContentType="image/x-wmf"/>
  <Override PartName="/ppt/media/image51.wmf" ContentType="image/x-wmf"/>
  <Override PartName="/ppt/media/image62.wmf" ContentType="image/x-wmf"/>
  <Override PartName="/ppt/media/image50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caralarmoff.wav" ContentType="audio/x-wav"/>
  <Override PartName="/ppt/media/image61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image23.wmf" ContentType="image/x-wmf"/>
  <Override PartName="/ppt/media/image24.wmf" ContentType="image/x-wmf"/>
  <Override PartName="/ppt/media/image12.wmf" ContentType="image/x-wmf"/>
  <Override PartName="/ppt/media/h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DE1-70DC-4091-B435-888383A7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EC0-3676-4C41-8C8C-51A506C5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516-3236-4130-A141-6052BBB5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B70-A336-4AB6-B18D-7F538E8D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9A6-F606-4DBB-8768-32EF94FD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CF9-00BF-4932-B37B-0D186E86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673-2F68-494D-94D9-CC84F98F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1FA-85B2-488A-A738-76085823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2CC-EC76-47B5-82AD-3415F340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BA4-2E9E-40F8-A3FF-99AC8E87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E92-40A3-4E05-818A-24E475D9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C2E-2B36-4A50-9325-848F2B4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10A0-82B7-46FE-98D7-340A3D794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audio" Target="../media/WHOOSH.WAV"/><Relationship Id="rId26" Type="http://schemas.openxmlformats.org/officeDocument/2006/relationships/audio" Target="../media/GUNSHOT.WAV"/><Relationship Id="rId27" Type="http://schemas.openxmlformats.org/officeDocument/2006/relationships/audio" Target="../media/WHOOSH.WAV"/><Relationship Id="rId28" Type="http://schemas.openxmlformats.org/officeDocument/2006/relationships/audio" Target="../media/highchime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DRIVEBY.WAV"/><Relationship Id="rId32" Type="http://schemas.openxmlformats.org/officeDocument/2006/relationships/audio" Target="../media/jetflyby2.wav"/><Relationship Id="rId33" Type="http://schemas.openxmlformats.org/officeDocument/2006/relationships/audio" Target="../media/LASER.WAV"/><Relationship Id="rId34" Type="http://schemas.openxmlformats.org/officeDocument/2006/relationships/audio" Target="../media/jetflyby2.wav"/><Relationship Id="rId35" Type="http://schemas.openxmlformats.org/officeDocument/2006/relationships/audio" Target="../media/LASER.WAV"/><Relationship Id="rId36" Type="http://schemas.openxmlformats.org/officeDocument/2006/relationships/audio" Target="../media/jetflyby2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highchime.wav"/><Relationship Id="rId42" Type="http://schemas.openxmlformats.org/officeDocument/2006/relationships/audio" Target="../media/LASER.WAV"/><Relationship Id="rId43" Type="http://schemas.openxmlformats.org/officeDocument/2006/relationships/audio" Target="../media/EXPLODE.WAV"/><Relationship Id="rId4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audio" Target="../media/WHOOSH.WAV"/><Relationship Id="rId28" Type="http://schemas.openxmlformats.org/officeDocument/2006/relationships/audio" Target="../media/GUNSHOT.WAV"/><Relationship Id="rId29" Type="http://schemas.openxmlformats.org/officeDocument/2006/relationships/audio" Target="../media/WHOOSH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hzipup01.wav"/><Relationship Id="rId33" Type="http://schemas.openxmlformats.org/officeDocument/2006/relationships/audio" Target="../media/caralarmoff.wav"/><Relationship Id="rId34" Type="http://schemas.openxmlformats.org/officeDocument/2006/relationships/audio" Target="../media/caralarmoff.wav"/><Relationship Id="rId35" Type="http://schemas.openxmlformats.org/officeDocument/2006/relationships/audio" Target="../media/hzipup01.wav"/><Relationship Id="rId36" Type="http://schemas.openxmlformats.org/officeDocument/2006/relationships/audio" Target="../media/hzipup01.wav"/><Relationship Id="rId37" Type="http://schemas.openxmlformats.org/officeDocument/2006/relationships/audio" Target="../media/hzipup01.wav"/><Relationship Id="rId38" Type="http://schemas.openxmlformats.org/officeDocument/2006/relationships/audio" Target="../media/hzipup01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child%20yikes.wav"/><Relationship Id="rId42" Type="http://schemas.openxmlformats.org/officeDocument/2006/relationships/audio" Target="../media/children%20yeah.wav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hzipup01.wav"/><Relationship Id="rId30" Type="http://schemas.openxmlformats.org/officeDocument/2006/relationships/audio" Target="../media/caralarmoff.wav"/><Relationship Id="rId31" Type="http://schemas.openxmlformats.org/officeDocument/2006/relationships/audio" Target="../media/caralarmoff.wav"/><Relationship Id="rId32" Type="http://schemas.openxmlformats.org/officeDocument/2006/relationships/audio" Target="../media/hzipup01.wav"/><Relationship Id="rId33" Type="http://schemas.openxmlformats.org/officeDocument/2006/relationships/audio" Target="../media/hzipup01.wav"/><Relationship Id="rId34" Type="http://schemas.openxmlformats.org/officeDocument/2006/relationships/audio" Target="../media/hzipup01.wav"/><Relationship Id="rId35" Type="http://schemas.openxmlformats.org/officeDocument/2006/relationships/audio" Target="../media/hzipup01.wav"/><Relationship Id="rId36" Type="http://schemas.openxmlformats.org/officeDocument/2006/relationships/audio" Target="../media/hzipup01.wav"/><Relationship Id="rId37" Type="http://schemas.openxmlformats.org/officeDocument/2006/relationships/audio" Target="../media/hzipup01.wav"/><Relationship Id="rId38" Type="http://schemas.openxmlformats.org/officeDocument/2006/relationships/audio" Target="../media/child%20yikes.wav"/><Relationship Id="rId39" Type="http://schemas.openxmlformats.org/officeDocument/2006/relationships/audio" Target="../media/children%20yeah.wav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hzipup01.wav"/><Relationship Id="rId34" Type="http://schemas.openxmlformats.org/officeDocument/2006/relationships/audio" Target="../media/caralarmoff.wav"/><Relationship Id="rId35" Type="http://schemas.openxmlformats.org/officeDocument/2006/relationships/audio" Target="../media/caralarmoff.wav"/><Relationship Id="rId36" Type="http://schemas.openxmlformats.org/officeDocument/2006/relationships/audio" Target="../media/hzipup01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hzipup01.wav"/><Relationship Id="rId40" Type="http://schemas.openxmlformats.org/officeDocument/2006/relationships/audio" Target="../media/hzipup01.wav"/><Relationship Id="rId41" Type="http://schemas.openxmlformats.org/officeDocument/2006/relationships/audio" Target="../media/hzipup01.wav"/><Relationship Id="rId42" Type="http://schemas.openxmlformats.org/officeDocument/2006/relationships/audio" Target="../media/hzipup01.wav"/><Relationship Id="rId43" Type="http://schemas.openxmlformats.org/officeDocument/2006/relationships/audio" Target="../media/hzipup01.wav"/><Relationship Id="rId44" Type="http://schemas.openxmlformats.org/officeDocument/2006/relationships/audio" Target="../media/child%20yikes.wav"/><Relationship Id="rId45" Type="http://schemas.openxmlformats.org/officeDocument/2006/relationships/audio" Target="../media/children%20yeah.wav"/><Relationship Id="rId4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audio" Target="../media/WHOOSH.WAV"/><Relationship Id="rId16" Type="http://schemas.openxmlformats.org/officeDocument/2006/relationships/audio" Target="../media/highchime.wav"/><Relationship Id="rId17" Type="http://schemas.openxmlformats.org/officeDocument/2006/relationships/audio" Target="../media/DRIVEBY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child%20yikes.wav"/><Relationship Id="rId26" Type="http://schemas.openxmlformats.org/officeDocument/2006/relationships/audio" Target="../media/child%20yikes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highchime.wav"/><Relationship Id="rId26" Type="http://schemas.openxmlformats.org/officeDocument/2006/relationships/audio" Target="../media/LASER.WAV"/><Relationship Id="rId27" Type="http://schemas.openxmlformats.org/officeDocument/2006/relationships/audio" Target="../media/highchime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highchime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byipee04.wav"/><Relationship Id="rId3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1.wmf"/><Relationship Id="rId23" Type="http://schemas.openxmlformats.org/officeDocument/2006/relationships/audio" Target="../media/LASER.WAV"/><Relationship Id="rId24" Type="http://schemas.openxmlformats.org/officeDocument/2006/relationships/audio" Target="../media/highchime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highchime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byipee04.wav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3.wmf"/><Relationship Id="rId23" Type="http://schemas.openxmlformats.org/officeDocument/2006/relationships/audio" Target="../media/LASER.WAV"/><Relationship Id="rId24" Type="http://schemas.openxmlformats.org/officeDocument/2006/relationships/audio" Target="../media/highchime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highchime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byipee04.wav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randomly selected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905120" y="5181480"/>
          <a:ext cx="12189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181480"/>
                    <a:ext cx="12189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066680" y="2209680"/>
            <a:ext cx="3200400" cy="3200400"/>
            <a:chOff x="1066680" y="2209680"/>
            <a:chExt cx="3200400" cy="320040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2438280"/>
              <a:ext cx="2743200" cy="2743200"/>
              <a:chOff x="1295280" y="2438280"/>
              <a:chExt cx="2743200" cy="27432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295280" y="2438280"/>
                <a:ext cx="2743200" cy="2743200"/>
                <a:chOff x="1295280" y="2438280"/>
                <a:chExt cx="2743200" cy="27432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1295280" y="51814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295280" y="48765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295280" y="45716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295280" y="42670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295280" y="39621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295280" y="36572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295280" y="3352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295280" y="3047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295280" y="274284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295280" y="24382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2952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002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051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096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146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195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1240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2900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3392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38480" y="243828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066680" y="2209680"/>
              <a:ext cx="3200400" cy="3200400"/>
              <a:chOff x="1066680" y="2209680"/>
              <a:chExt cx="3200400" cy="320040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1599840" y="2209680"/>
                <a:ext cx="0" cy="320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66680" y="4876560"/>
                <a:ext cx="32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2209680" y="2743200"/>
            <a:ext cx="121932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286000"/>
            <a:ext cx="1249200" cy="576360"/>
            <a:chOff x="2133720" y="2286000"/>
            <a:chExt cx="1249200" cy="576360"/>
          </a:xfrm>
        </p:grpSpPr>
        <p:sp>
          <p:nvSpPr>
            <p:cNvPr id="74" name=""/>
            <p:cNvSpPr/>
            <p:nvPr/>
          </p:nvSpPr>
          <p:spPr>
            <a:xfrm>
              <a:off x="2133720" y="2667240"/>
              <a:ext cx="152280" cy="1522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2286000" y="2286000"/>
            <a:ext cx="1096920" cy="57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2286000"/>
                      <a:ext cx="109692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3352680" y="4191120"/>
            <a:ext cx="1277640" cy="576000"/>
            <a:chOff x="3352680" y="4191120"/>
            <a:chExt cx="1277640" cy="576000"/>
          </a:xfrm>
        </p:grpSpPr>
        <p:sp>
          <p:nvSpPr>
            <p:cNvPr id="78" name=""/>
            <p:cNvSpPr/>
            <p:nvPr/>
          </p:nvSpPr>
          <p:spPr>
            <a:xfrm>
              <a:off x="3352680" y="4495680"/>
              <a:ext cx="152280" cy="151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3476520" y="4191120"/>
            <a:ext cx="1153800" cy="57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76520" y="4191120"/>
                      <a:ext cx="115380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" name=""/>
          <p:cNvGrpSpPr/>
          <p:nvPr/>
        </p:nvGrpSpPr>
        <p:grpSpPr>
          <a:xfrm>
            <a:off x="2209680" y="2743200"/>
            <a:ext cx="1218960" cy="1828800"/>
            <a:chOff x="2209680" y="2743200"/>
            <a:chExt cx="1218960" cy="1828800"/>
          </a:xfrm>
        </p:grpSpPr>
        <p:sp>
          <p:nvSpPr>
            <p:cNvPr id="82" name=""/>
            <p:cNvSpPr/>
            <p:nvPr/>
          </p:nvSpPr>
          <p:spPr>
            <a:xfrm>
              <a:off x="2209680" y="4572000"/>
              <a:ext cx="121896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09680" y="2743200"/>
              <a:ext cx="0" cy="182880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5334120" y="2286000"/>
          <a:ext cx="257472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2286000"/>
                    <a:ext cx="2574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484520" y="3352680"/>
          <a:ext cx="1676520" cy="74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84520" y="3352680"/>
                    <a:ext cx="16765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3352680"/>
          <a:ext cx="1254240" cy="57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352680"/>
                    <a:ext cx="1254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0" name=""/>
          <p:cNvCxnSpPr/>
          <p:nvPr/>
        </p:nvCxnSpPr>
        <p:spPr>
          <a:xfrm rot="5400000">
            <a:off x="2299320" y="4786200"/>
            <a:ext cx="658080" cy="229320"/>
          </a:xfrm>
          <a:prstGeom prst="curvedConnector5">
            <a:avLst>
              <a:gd name="adj1" fmla="val 47783"/>
              <a:gd name="adj2" fmla="val 50000"/>
              <a:gd name="adj3" fmla="val 4778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 rot="5400000">
            <a:off x="1576440" y="3147480"/>
            <a:ext cx="240480" cy="956160"/>
          </a:xfrm>
          <a:prstGeom prst="curvedConnector5">
            <a:avLst>
              <a:gd name="adj1" fmla="val -83358"/>
              <a:gd name="adj2" fmla="val 24971"/>
              <a:gd name="adj3" fmla="val -83358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92" name=""/>
          <p:cNvGraphicFramePr/>
          <p:nvPr/>
        </p:nvGraphicFramePr>
        <p:xfrm>
          <a:off x="1219320" y="5815080"/>
          <a:ext cx="5803920" cy="104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9320" y="5815080"/>
                    <a:ext cx="5803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084720" y="3352680"/>
          <a:ext cx="1960560" cy="744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84720" y="3352680"/>
                    <a:ext cx="19605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947000" y="3429000"/>
          <a:ext cx="1033560" cy="53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947000" y="3429000"/>
                    <a:ext cx="10335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"/>
          <p:cNvGrpSpPr/>
          <p:nvPr/>
        </p:nvGrpSpPr>
        <p:grpSpPr>
          <a:xfrm>
            <a:off x="4179960" y="3124080"/>
            <a:ext cx="4964040" cy="1100160"/>
            <a:chOff x="4179960" y="3124080"/>
            <a:chExt cx="4964040" cy="1100160"/>
          </a:xfrm>
        </p:grpSpPr>
        <p:graphicFrame>
          <p:nvGraphicFramePr>
            <p:cNvPr id="99" name=""/>
            <p:cNvGraphicFramePr/>
            <p:nvPr/>
          </p:nvGraphicFramePr>
          <p:xfrm>
            <a:off x="4179960" y="3200400"/>
            <a:ext cx="3924360" cy="1023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179960" y="3200400"/>
                      <a:ext cx="3924360" cy="10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8217000" y="3124080"/>
            <a:ext cx="927000" cy="1023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217000" y="3124080"/>
                      <a:ext cx="927000" cy="10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3" name=""/>
          <p:cNvGraphicFramePr/>
          <p:nvPr/>
        </p:nvGraphicFramePr>
        <p:xfrm>
          <a:off x="4267080" y="4572000"/>
          <a:ext cx="4668840" cy="851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67080" y="4572000"/>
                    <a:ext cx="46688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2857680"/>
          <a:ext cx="5803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57680"/>
                    <a:ext cx="5803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990720" y="3848040"/>
          <a:ext cx="571500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848040"/>
                    <a:ext cx="571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62120" y="4915080"/>
          <a:ext cx="440676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15080"/>
                    <a:ext cx="44067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84840" y="4991040"/>
          <a:ext cx="265248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4840" y="4991040"/>
                    <a:ext cx="26524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295280" y="6058080"/>
          <a:ext cx="160524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6058080"/>
                    <a:ext cx="16052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895480" y="6134040"/>
          <a:ext cx="1067040" cy="70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6134040"/>
                    <a:ext cx="10670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438280" y="4152960"/>
          <a:ext cx="1390680" cy="51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4152960"/>
                    <a:ext cx="13906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876920" y="4152960"/>
          <a:ext cx="1133280" cy="51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76920" y="4152960"/>
                    <a:ext cx="1133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38080" y="2209680"/>
          <a:ext cx="3229200" cy="78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2209680"/>
                    <a:ext cx="32292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209680" y="5257800"/>
          <a:ext cx="692280" cy="51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09680" y="5257800"/>
                    <a:ext cx="692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86200" y="5257800"/>
          <a:ext cx="736560" cy="517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86200" y="5257800"/>
                    <a:ext cx="73656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867280" y="5181480"/>
          <a:ext cx="46692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67280" y="5181480"/>
                    <a:ext cx="4669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705720" y="5181480"/>
          <a:ext cx="707760" cy="563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05720" y="5181480"/>
                    <a:ext cx="7077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66680" y="2857680"/>
          <a:ext cx="5803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57680"/>
                    <a:ext cx="5803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90720" y="3848040"/>
          <a:ext cx="571500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848040"/>
                    <a:ext cx="571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828720" y="4915080"/>
          <a:ext cx="427500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4915080"/>
                    <a:ext cx="427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883040" y="4991040"/>
          <a:ext cx="265284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3040" y="4991040"/>
                    <a:ext cx="2652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436760" y="6058080"/>
          <a:ext cx="132084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36760" y="6058080"/>
                    <a:ext cx="13208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31960" y="6134040"/>
          <a:ext cx="1594080" cy="70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31960" y="6134040"/>
                    <a:ext cx="1594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546280" y="4152960"/>
          <a:ext cx="1173240" cy="51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46280" y="4152960"/>
                    <a:ext cx="11732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900680" y="4152960"/>
          <a:ext cx="1084320" cy="51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00680" y="4152960"/>
                    <a:ext cx="1084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85800" y="2209680"/>
          <a:ext cx="2962440" cy="78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" y="2209680"/>
                    <a:ext cx="29624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362320" y="5257800"/>
          <a:ext cx="431640" cy="51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623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962520" y="5257800"/>
          <a:ext cx="431640" cy="517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625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867280" y="5181480"/>
          <a:ext cx="46836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86728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705720" y="5181480"/>
          <a:ext cx="468360" cy="563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0572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219320"/>
            <a:ext cx="883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distance between two points using the distanc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66680" y="2857680"/>
          <a:ext cx="580392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57680"/>
                    <a:ext cx="58039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925560" y="3848040"/>
          <a:ext cx="584676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5560" y="3848040"/>
                    <a:ext cx="584676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828720" y="4915080"/>
          <a:ext cx="427500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4915080"/>
                    <a:ext cx="4275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883040" y="4991040"/>
          <a:ext cx="265284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83040" y="4991040"/>
                    <a:ext cx="26528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271520" y="6058080"/>
          <a:ext cx="165276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71520" y="6058080"/>
                    <a:ext cx="16527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816280" y="6153120"/>
          <a:ext cx="1600200" cy="70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6280" y="6153120"/>
                    <a:ext cx="1600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0" y="4038480"/>
          <a:ext cx="1697040" cy="784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0" y="4038480"/>
                    <a:ext cx="169704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952880" y="4114800"/>
          <a:ext cx="1171800" cy="51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4114800"/>
                    <a:ext cx="1171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52600" y="2209680"/>
          <a:ext cx="3228840" cy="78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2600" y="2209680"/>
                    <a:ext cx="32288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382840" y="5257800"/>
          <a:ext cx="388800" cy="517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82840" y="5257800"/>
                    <a:ext cx="3888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962520" y="5257800"/>
          <a:ext cx="431640" cy="517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62520" y="5257800"/>
                    <a:ext cx="431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715000" y="5181480"/>
          <a:ext cx="71136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5181480"/>
                    <a:ext cx="711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6705720" y="5181480"/>
          <a:ext cx="468360" cy="563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05720" y="5181480"/>
                    <a:ext cx="4683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514600" y="4114800"/>
          <a:ext cx="555480" cy="555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14600" y="4114800"/>
                    <a:ext cx="555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048120" y="4114800"/>
          <a:ext cx="555480" cy="555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048120" y="4114800"/>
                    <a:ext cx="55548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219320"/>
            <a:ext cx="944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. From your home, you ride your bicycle 8 miles east,  then 15 miles south. How far are you from your hom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34120" y="2286000"/>
            <a:ext cx="3809880" cy="3402000"/>
            <a:chOff x="5334120" y="2286000"/>
            <a:chExt cx="3809880" cy="3402000"/>
          </a:xfrm>
        </p:grpSpPr>
        <p:grpSp>
          <p:nvGrpSpPr>
            <p:cNvPr id="200" name=""/>
            <p:cNvGrpSpPr/>
            <p:nvPr/>
          </p:nvGrpSpPr>
          <p:grpSpPr>
            <a:xfrm>
              <a:off x="5715000" y="2743200"/>
              <a:ext cx="2743200" cy="2743200"/>
              <a:chOff x="5715000" y="2743200"/>
              <a:chExt cx="2743200" cy="27432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5715000" y="2743200"/>
                <a:ext cx="2743200" cy="2743200"/>
                <a:chOff x="5715000" y="2743200"/>
                <a:chExt cx="2743200" cy="2743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715000" y="54864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715000" y="51814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15000" y="48765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715000" y="45720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15000" y="42670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715000" y="39621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715000" y="36576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715000" y="335268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15000" y="304776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715000" y="2743200"/>
                  <a:ext cx="27432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571500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1992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2448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2940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31080" y="2751120"/>
                <a:ext cx="4680" cy="2735280"/>
              </a:xfrm>
              <a:custGeom>
                <a:avLst/>
                <a:gdLst/>
                <a:ahLst/>
                <a:rect l="l" t="t" r="r" b="b"/>
                <a:pathLst>
                  <a:path w="3" h="1723">
                    <a:moveTo>
                      <a:pt x="0" y="0"/>
                    </a:moveTo>
                    <a:lnTo>
                      <a:pt x="3" y="1723"/>
                    </a:lnTo>
                  </a:path>
                </a:pathLst>
              </a:custGeom>
              <a:noFill/>
              <a:ln w="9360">
                <a:solidFill>
                  <a:srgbClr val="33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888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4380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4872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15328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458200" y="2743200"/>
                <a:ext cx="0" cy="2743200"/>
              </a:xfrm>
              <a:prstGeom prst="line">
                <a:avLst/>
              </a:prstGeom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532480" y="2737080"/>
              <a:ext cx="2919240" cy="20520"/>
            </a:xfrm>
            <a:custGeom>
              <a:avLst/>
              <a:gdLst/>
              <a:ahLst/>
              <a:rect l="l" t="t" r="r" b="b"/>
              <a:pathLst>
                <a:path w="1839" h="13">
                  <a:moveTo>
                    <a:pt x="1839" y="0"/>
                  </a:move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5200" bIns="-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58200" y="2743200"/>
              <a:ext cx="0" cy="294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4120" y="228600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  14 12 10  8   6  4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58200" y="2667240"/>
              <a:ext cx="68580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238520" y="2743200"/>
            <a:ext cx="121932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2743200"/>
            <a:ext cx="0" cy="228600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238520" y="2743200"/>
            <a:ext cx="1219320" cy="22860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2133720"/>
          <a:ext cx="257472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2574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295280" y="2819520"/>
          <a:ext cx="274968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19520"/>
                    <a:ext cx="274968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066680" y="3581280"/>
          <a:ext cx="69228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3581280"/>
                    <a:ext cx="692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752480" y="3429000"/>
          <a:ext cx="217332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3429000"/>
                    <a:ext cx="21733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981080" y="4038480"/>
          <a:ext cx="1868760" cy="65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4038480"/>
                    <a:ext cx="18687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38080" y="4876920"/>
          <a:ext cx="2090880" cy="73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4876920"/>
                    <a:ext cx="209088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971800" y="4971960"/>
          <a:ext cx="2590920" cy="62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71800" y="4971960"/>
                    <a:ext cx="2590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685800" y="2895480"/>
          <a:ext cx="3710160" cy="14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371016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259240" y="2133720"/>
          <a:ext cx="3884760" cy="14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9240" y="2133720"/>
                    <a:ext cx="38847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380880" y="2133720"/>
          <a:ext cx="2837160" cy="78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133720"/>
                    <a:ext cx="28371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089000" y="3048120"/>
          <a:ext cx="34308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9000" y="3048120"/>
                    <a:ext cx="343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295280" y="4572000"/>
          <a:ext cx="3873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45720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82800" y="3048120"/>
          <a:ext cx="43020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82800" y="3048120"/>
                    <a:ext cx="43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763720" y="3048120"/>
          <a:ext cx="38736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63720" y="304812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581280" y="3048120"/>
          <a:ext cx="387360" cy="51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81280" y="304812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762120" y="4419720"/>
          <a:ext cx="2442960" cy="1481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4419720"/>
                    <a:ext cx="24429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86000" y="4572000"/>
          <a:ext cx="387360" cy="51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86000" y="45720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200400" y="4419720"/>
          <a:ext cx="2457360" cy="1671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00400" y="4419720"/>
                    <a:ext cx="245736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411120" y="2887560"/>
          <a:ext cx="4233960" cy="14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2887560"/>
                    <a:ext cx="423396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259240" y="2133720"/>
          <a:ext cx="3884760" cy="14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9240" y="2133720"/>
                    <a:ext cx="38847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4000" y="2133720"/>
          <a:ext cx="3492360" cy="78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00" y="2133720"/>
                    <a:ext cx="349236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901800" y="3040200"/>
          <a:ext cx="3873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1800" y="30402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262160" y="4564080"/>
          <a:ext cx="43020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62160" y="4564080"/>
                    <a:ext cx="4302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565280" y="2906640"/>
          <a:ext cx="1041480" cy="78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65280" y="2906640"/>
                    <a:ext cx="10414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773440" y="3040200"/>
          <a:ext cx="34272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3440" y="3040200"/>
                    <a:ext cx="3427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416400" y="2887560"/>
          <a:ext cx="998280" cy="785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6400" y="2887560"/>
                    <a:ext cx="9982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749160" y="4411800"/>
          <a:ext cx="2443320" cy="1481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9160" y="4411800"/>
                    <a:ext cx="24433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73400" y="4564080"/>
          <a:ext cx="387360" cy="51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73400" y="456408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3581280" y="4724280"/>
          <a:ext cx="1816200" cy="96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81280" y="4724280"/>
                    <a:ext cx="181620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411120" y="2887560"/>
          <a:ext cx="4233960" cy="14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2887560"/>
                    <a:ext cx="423396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193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d the midpoint between the two poin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259240" y="2133720"/>
          <a:ext cx="3884760" cy="14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9240" y="2133720"/>
                    <a:ext cx="38847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93760" y="2133720"/>
          <a:ext cx="3012840" cy="78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3760" y="2133720"/>
                    <a:ext cx="301284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901800" y="3040200"/>
          <a:ext cx="3873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1800" y="304020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282680" y="4564080"/>
          <a:ext cx="38736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82680" y="4564080"/>
                    <a:ext cx="387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0" y="1676520"/>
            <a:ext cx="944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dpoint is like finding the averag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676520" y="3048120"/>
          <a:ext cx="38556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3048120"/>
                    <a:ext cx="3855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752560" y="3040200"/>
          <a:ext cx="385920" cy="519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52560" y="3040200"/>
                    <a:ext cx="385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3581280" y="3048120"/>
          <a:ext cx="432000" cy="51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81280" y="3048120"/>
                    <a:ext cx="4320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2120" y="4419720"/>
          <a:ext cx="2442960" cy="1481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4419720"/>
                    <a:ext cx="244296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2251080" y="4564080"/>
          <a:ext cx="431640" cy="519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51080" y="4564080"/>
                    <a:ext cx="431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581280" y="4724280"/>
          <a:ext cx="1816200" cy="966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81280" y="4724280"/>
                    <a:ext cx="181620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stance and Midpoint Form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2 - 6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3-25T19:56:03Z</dcterms:modified>
  <cp:revision>79</cp:revision>
  <dc:subject/>
  <dc:title>No Slide Title</dc:title>
</cp:coreProperties>
</file>